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6858000" cy="5486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85A0-309C-46E7-9B42-93B641D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1113-81B6-40F9-819F-F7595557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F833-88F5-41EC-A34D-E1AC719A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AF909-6C2C-48EB-A33D-690C6A8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6F783-6EBD-4C5F-9922-519A0DA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238E-0B38-43F5-AFB6-41F71692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7D0C2-58EA-4CEB-B563-146CA5EE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A376B-F2DA-4BB7-B6AB-7763B4F6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9865A-FEB0-41AE-B04A-83B28402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A2A7C-38D1-4957-B998-14FE7283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10DBC-8110-4895-8A9E-5AD4C36E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36314-FA65-4236-AD4B-794E5D41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B35498-71A5-4620-A0A2-302F26A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81158-E1DA-4F0C-92FC-0EED13E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67546-1614-429B-9EBA-0D06626D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FD719-95AA-4527-B116-AEEE1F16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12531-D43C-46E9-8C80-F4E61F81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C0AF0-AA06-42CB-9A25-4CDEF167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C7174-76C8-4E49-BFCC-8B308D1E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C0F0F-3805-4383-AC99-44303AAD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964DC-5D4E-4D3D-80B8-880B64B2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6FB0D-F2B8-4C75-AD2F-F6D950F1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53CAF-CA0E-4C71-ACEB-F44CCD86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4A848-033F-4F94-B980-C47D7C76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0A784-1064-430D-AFFC-E22DCA2E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7BB48-13FC-4498-B403-42E02EC8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9D5BB-A524-48D4-B29A-7665AD2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349EF-7246-42F7-AE3F-36674DC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1CE3B-593C-426C-82EB-C11DF8D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28BC4-D647-4359-A969-5C2F1BFF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9FA-6FCE-4CCB-99E2-E63206B6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84180-4381-473F-8EF3-A117DF95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A0291-AF02-4B0C-9B62-9001CD73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41363-171A-4132-AEDD-9D8C23F1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2C0D8-8E32-4A21-9147-11DD430B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CE05-B465-49D3-9A44-C9095FF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F77F9-AFA9-48D7-AD2B-AEB5998B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47DC1-A094-4599-8355-41E91939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F1D33-9B04-4593-AA5D-0D95D446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35179-62B9-414E-8310-748A71CF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618F1-8121-4EB4-97C3-5F6DB5B0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73A-407B-45A4-9445-C19E0218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97124-0054-4D19-8BD1-8AD783EE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74AD6-8C81-40DF-B77F-5E4CC882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3CA65-9D00-46C4-9CA5-DB21311E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50B8B-51DB-4BFE-8F61-4B22A0C1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79B8F-3179-451A-8B30-2CAC8865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141-C3BD-4B7A-AEC5-7A8BDD24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335-A70B-4B43-8DEC-196EC0A7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533-F20C-41D8-8037-74D0FDA9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01BF-1D13-4CE6-9FB7-B5B6EDF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860-B0F2-4C4E-A7BD-51233383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64A-ADA1-4BE8-9E0A-7679C3EF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31B-56AE-45C1-95C5-1FF97524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5F1-0BF2-431E-9054-E378B89E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AAFF-69B7-4E88-B5CE-D85374B4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853-6A24-4AFA-8627-F6179EE4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BDD0-0E99-42A9-B501-662B13F8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6A42-BFFE-4231-9B15-CA89104E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80ED-59BB-482A-9CB6-F956CFC6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40BF-3773-4245-8A2A-F74B5424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80A7-C55A-4F74-9D39-8FBE576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D8B2-43DC-47FF-B55C-9B3B5A7B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4EDA-A952-4941-86F9-AC067DB7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8609-D9DB-4B01-8A72-BF48D67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B7EC-79CE-40BC-8FAC-0503E12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7AD-FA27-4486-9F93-129894AC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4D4F-8C42-47F8-9F65-3C14E51A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1436-518B-4F99-834D-3F992927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334D-DCAD-4EAA-A5C6-1288E8CA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16DE9-DF3A-4119-8B66-175BD01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4F60-35FF-42A0-94F9-86CDFD8D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5CE15-E864-4BFA-B252-FBE8A81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7B5D0-EFEB-40B6-928A-D0F8040A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2D6B-2335-4DDF-8506-CD681455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FD260-7F19-4689-9174-9F0A8B0F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BB962-3BE1-40EF-B426-2BD00EAC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D548-BA2A-4E00-A391-C3094D1B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B0FBB-CD8A-4F31-AE4C-C1732BE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EDC6-BD74-4403-975B-A60951B6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6EEDD-D430-4D9E-8785-C273BC8A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8D61D-88E6-4844-A18F-14B0B3D8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AFA32-0BF0-419A-8777-524C8093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18A1-39ED-4872-8193-27C8C2D3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16ECE-FA05-4C42-AE2D-DD00BBD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E9AE-9BFB-4163-B3E2-F2BD6244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CEE1-FF51-462A-B855-BB4541D4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D89E-77BA-4BB2-9377-E7E1022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4453B-547B-4B0A-9935-39E14E94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CF848-5BAB-4579-AA80-9B71FE24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276D-754F-4880-B813-DF51CE09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51C7D-16A7-4966-8AF0-8F1F766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A955-8DF9-4271-81B4-E93A8337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515E-6F68-4DF6-B268-EC4152C9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0793C-9F7D-4410-A031-01678981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ADED-FF58-4A6C-8EFF-2B24475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B5621-E066-4FB2-9370-F95188CA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B85C6-3425-43D4-9E16-6817A07A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6DB92-D6D0-4761-A768-20CAD61D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22E7E-8C1D-404B-970F-BD08981E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DA3B9-A4A3-404F-B746-619B4DB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A1BE6-2204-4083-8877-1F823C7B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DFDA-D081-400F-9B50-A04EAF84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06A9-B1D8-492E-B954-5AA265AA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CCA1-5E8A-4CF1-A6E8-D7BECAD4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B3C51-C084-45CB-8BF7-0985F41F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22258-423B-4A04-A25E-9529804D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3C4C-39C3-45EB-838B-D16E3E49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40CC5-7B7C-421A-BA42-81305A2B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CB12-E4B0-48F4-9813-FF701F1B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313B4-BA24-41DD-9D1C-39F1379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C9DC-DB9A-4CB8-B87D-99AE2380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2088-7651-43E6-B4CA-69679055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58907-B95F-45B7-8E92-BBBC9375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F038C-99AD-4F08-A4A9-8A2BF6E6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D9BB2-90AE-427C-B1FC-220C188B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3052-201D-4509-AD70-C14322D3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1867B-645D-41A1-AB44-2E67AF50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4B6F0-1357-4593-9783-8229F65B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0378D-249F-493A-9CCD-9C4B9B0E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1B200-E7C6-4703-BBFA-9FBF2568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67366-B73C-494C-9955-78FB8C0F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42720" y="218880"/>
            <a:ext cx="61718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1D34-F79E-4B62-8FF1-E2B0E944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BEBBC-EB68-45AF-BE8D-508B0C8B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42465-AE97-4A70-8E06-06FDE80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73343-DFEA-40AA-B905-AE937034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42720" y="2945880"/>
            <a:ext cx="617184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3C81F-62E1-40CA-8DDF-7E0B5543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5320" y="128376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427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505320" y="2945880"/>
            <a:ext cx="301176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6DB5F-ECF2-4E2E-B1EA-3EAD1FDE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2964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16560" y="128376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4272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242964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4516560" y="2945880"/>
            <a:ext cx="1987200" cy="15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EA447-8A37-48CA-A1D5-1DDA6CC1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71262-0314-402B-9CB9-4EFF8F54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14B29-65DA-4D80-8CBA-E5624C19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218880"/>
            <a:ext cx="61718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1283760"/>
            <a:ext cx="6171840" cy="31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CB5C6-E53E-4053-A6F7-4D61F340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5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6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7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105C10F7-9D20-48A0-B7B6-FF8AE0CA618B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8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9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30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866AE5A8-02F8-4BF0-9494-6E0607C047F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3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3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C05E7FC8-E63D-41BC-9408-0B45A9DD7370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ReadyBizInvite_bkgd*.jpg"/>
          <p:cNvPicPr/>
          <p:nvPr/>
        </p:nvPicPr>
        <p:blipFill>
          <a:blip r:embed="rId3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608ACDC9-16F6-4412-AFB8-672C7B7CD3FA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968B5662-A2AC-4660-B975-0C659742DFD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7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8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9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C7B95736-A472-4316-8B0B-93889828F1B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11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1E6B1932-98F1-4FAE-B4F2-F44B4B7E2B8C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3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4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5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0EB28106-E413-440A-874B-8907CF109EA1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6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7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8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BB1D3314-8C2C-48C5-A4A7-6F4E9F5060B3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9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20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21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6869EF62-9822-433D-AB1F-EC1FD2D84A4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ReadyBizInvite_bkgd*.jpg"/>
          <p:cNvPicPr/>
          <p:nvPr/>
        </p:nvPicPr>
        <p:blipFill>
          <a:blip r:embed="rId2"/>
          <a:stretch/>
        </p:blipFill>
        <p:spPr>
          <a:xfrm>
            <a:off x="0" y="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22"/>
          </p:nvPr>
        </p:nvSpPr>
        <p:spPr>
          <a:xfrm>
            <a:off x="342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3"/>
          </p:nvPr>
        </p:nvSpPr>
        <p:spPr>
          <a:xfrm>
            <a:off x="2343240" y="5084640"/>
            <a:ext cx="21715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4"/>
          </p:nvPr>
        </p:nvSpPr>
        <p:spPr>
          <a:xfrm>
            <a:off x="4914720" y="5084640"/>
            <a:ext cx="16002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fld id="{18C760DD-3B64-4378-B58A-6272DE1D7C46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tle 1"/>
          <p:cNvSpPr/>
          <p:nvPr/>
        </p:nvSpPr>
        <p:spPr>
          <a:xfrm>
            <a:off x="174600" y="184320"/>
            <a:ext cx="35416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Helvetica Neue Light"/>
              </a:rPr>
              <a:t>[Insert Year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 Neue Light"/>
              </a:rPr>
              <a:t>WORKSHOP SE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Placeholder 4"/>
          <p:cNvSpPr/>
          <p:nvPr/>
        </p:nvSpPr>
        <p:spPr>
          <a:xfrm>
            <a:off x="4143240" y="1611360"/>
            <a:ext cx="2430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y Business Severe Wind/Tornado Worksho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8"/>
          <p:cNvSpPr/>
          <p:nvPr/>
        </p:nvSpPr>
        <p:spPr>
          <a:xfrm>
            <a:off x="163440" y="2070000"/>
            <a:ext cx="355284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Identify Your Ris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about business continuity, disaster response, and the cost benefit of preparing for severe wind/tornadoes and other business interrupti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Develop a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preparedness and mitigation actions needed to ensure safety and business continuity. Complete assessments and begin planning for retrofit project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i="1" lang="en-US" sz="1000" spc="-1" strike="noStrike">
                <a:solidFill>
                  <a:srgbClr val="458626"/>
                </a:solidFill>
                <a:latin typeface="Arial"/>
              </a:rPr>
              <a:t>Take 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arn how to perform preparedness and mitigation activities using Ready Busines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9"/>
          <p:cNvSpPr/>
          <p:nvPr/>
        </p:nvSpPr>
        <p:spPr>
          <a:xfrm>
            <a:off x="163440" y="1641600"/>
            <a:ext cx="35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Ready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[Insert Location]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63440" y="1227240"/>
            <a:ext cx="3552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2000" spc="-1" strike="noStrike">
                <a:solidFill>
                  <a:srgbClr val="458626"/>
                </a:solidFill>
                <a:latin typeface="Arial"/>
              </a:rPr>
              <a:t>JOIN U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9" name="Picture 1" descr="FLASH-horizontal-tagline-RGB.jpg"/>
          <p:cNvPicPr/>
          <p:nvPr/>
        </p:nvPicPr>
        <p:blipFill>
          <a:blip r:embed="rId1"/>
          <a:stretch/>
        </p:blipFill>
        <p:spPr>
          <a:xfrm>
            <a:off x="2747880" y="4830840"/>
            <a:ext cx="1387440" cy="4856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DHS_FEMA Logo horizontal.eps"/>
          <p:cNvPicPr/>
          <p:nvPr/>
        </p:nvPicPr>
        <p:blipFill>
          <a:blip r:embed="rId2"/>
          <a:stretch/>
        </p:blipFill>
        <p:spPr>
          <a:xfrm>
            <a:off x="903240" y="4905360"/>
            <a:ext cx="1258920" cy="449280"/>
          </a:xfrm>
          <a:prstGeom prst="rect">
            <a:avLst/>
          </a:prstGeom>
          <a:ln w="0">
            <a:noFill/>
          </a:ln>
        </p:spPr>
      </p:pic>
      <p:sp>
        <p:nvSpPr>
          <p:cNvPr id="521" name="Text Placeholder 4"/>
          <p:cNvSpPr/>
          <p:nvPr/>
        </p:nvSpPr>
        <p:spPr>
          <a:xfrm>
            <a:off x="4135320" y="2239920"/>
            <a:ext cx="2305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Dat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:00 a.m. – 3:00 p.m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Placeholder 4"/>
          <p:cNvSpPr/>
          <p:nvPr/>
        </p:nvSpPr>
        <p:spPr>
          <a:xfrm>
            <a:off x="4135320" y="2976480"/>
            <a:ext cx="2530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[Insert Workshop Loc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ity, State Zip Code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Placeholder 4"/>
          <p:cNvSpPr/>
          <p:nvPr/>
        </p:nvSpPr>
        <p:spPr>
          <a:xfrm>
            <a:off x="4135320" y="3897360"/>
            <a:ext cx="25304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orkshop is free, but registration is required. </a:t>
            </a:r>
            <a:r>
              <a:rPr b="0" lang="en-US" sz="1000" spc="-1" strike="noStrike">
                <a:solidFill>
                  <a:srgbClr val="c00000"/>
                </a:solidFill>
                <a:latin typeface="Arial"/>
              </a:rPr>
              <a:t>Click her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Box 1"/>
          <p:cNvSpPr/>
          <p:nvPr/>
        </p:nvSpPr>
        <p:spPr>
          <a:xfrm>
            <a:off x="4302000" y="479268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Change out and ad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2440"/>
                <a:tab algn="l" pos="704880"/>
                <a:tab algn="l" pos="1057320"/>
                <a:tab algn="l" pos="1409760"/>
                <a:tab algn="l" pos="1762200"/>
                <a:tab algn="l" pos="2114640"/>
                <a:tab algn="l" pos="2467080"/>
                <a:tab algn="l" pos="2819520"/>
                <a:tab algn="l" pos="3171960"/>
                <a:tab algn="l" pos="3524400"/>
                <a:tab algn="l" pos="3876840"/>
                <a:tab algn="l" pos="4229280"/>
                <a:tab algn="l" pos="4581360"/>
                <a:tab algn="l" pos="4933800"/>
                <a:tab algn="l" pos="5286240"/>
                <a:tab algn="l" pos="5638680"/>
                <a:tab algn="l" pos="5991120"/>
                <a:tab algn="l" pos="6343560"/>
                <a:tab algn="l" pos="6696000"/>
                <a:tab algn="l" pos="704844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  <a:ea typeface="Arial"/>
              </a:rPr>
              <a:t>logos as need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4T22:44:12Z</dcterms:created>
  <dc:creator>AnnaK</dc:creator>
  <dc:description/>
  <dc:language>en-US</dc:language>
  <cp:lastModifiedBy>Sarah Chason</cp:lastModifiedBy>
  <dcterms:modified xsi:type="dcterms:W3CDTF">2017-02-10T16:42:33Z</dcterms:modified>
  <cp:revision>16</cp:revision>
  <dc:subject/>
  <dc:title>PowerPoint Presentation</dc:title>
</cp:coreProperties>
</file>